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dds of hitting your target go up dramatically when you aim at it.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Mal Panco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r of Thought: Hitting Unseen Target</a:t>
            </a:r>
            <a:r>
              <a:rPr b="0" lang="en-CA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reflect on quote and story - impact and connections to plen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ocus of this story is intended to be for the teacher, planning without a goal in mind is like trying to hit a target blindfol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en planning for students, teachers must have the goal clearly in mind - the learning tasks provide students the opportunity to hit the targ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pen conversation regarding placement of a learning goal in the math lesson.  Process vs content learning goals and their plac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creen shot of article will disappear on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ist of sections to read will then appear with same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article provides background information, including specifics regarding multiplicative and additive think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ad the following sections of Recognising the Difference Between Additive and Multiplicative Thinking in Young Child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Results (Sections of inter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nclusion &amp; I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ppendix:  Description of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5 minutes (approximately) +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view evidence of Proportional Reasoning and connections to Proportional Reasoning in curriculum expectations for their grade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esent PR expectation in Grade 4 expectations (on slide sh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igsaw – grade groups will find PR expectations and connections – record on chart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roups will share in order to se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la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dscape of learning</a:t>
            </a:r>
            <a:r>
              <a:rPr b="0" lang="en-CA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for 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view evidence of Proportional Reasoning and connections to Proportional Reasoning in curriculum expectations for their grade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esent PR expectation in Grade 4 expectations (on slide sh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igsaw – grade groups will find PR expectations and connections – record on chart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roups will share in order to se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la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dscape of learning</a:t>
            </a:r>
            <a:r>
              <a:rPr b="0" lang="en-CA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for 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utterfly House (K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entipede’s 100 Shoes (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low grade groups access to picture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answer question (in more than one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vide student work samples to grad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analyze sample student responses and make connections to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s to lesson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 to consolidating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as learning - co-constructing “what a great answer looks lik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utterfly House (K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entipede’s 100 Shoes (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low grade groups access to picture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nticipate student response you might see and record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vide student work samples to grad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analyze sample student responses and make connections to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s to lesson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 to consolidating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as learning - co-constructing “what a great answer looks lik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f time remai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vide participants an opportunity to review and revise concept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Journal Reflection: Reflect on a lesson that has really hit the target.  Describe the elements that were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C70A-72AE-4784-A3F1-834D50C77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4802-A899-42E7-97F5-E49ABEC13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6593-BCE1-4CC3-8C67-4E7414565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7F68-40AA-4724-A770-3B8390280E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C99E-1A91-47A9-A941-9DC5F14951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E2A1-593F-4316-933B-9805C5305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AAF2-D010-4AA5-9B92-AE10C1F3B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A0EE-54A2-4434-9233-0E2B067B8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8D28-A827-4D94-A3FC-B74142F82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0205-6B69-498E-BC76-7E540279B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F47C-FFE2-4534-BD7E-880BE08DE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17D8-2E9F-446F-8133-C7E2C9AB1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D709-15AF-4D06-8369-53C57CB013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7F23-86E7-4D59-BD6C-E2E097917D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:</a:t>
            </a: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42478"/>
                </a:solidFill>
                <a:latin typeface="Tahoma"/>
                <a:ea typeface="Tahoma"/>
              </a:rPr>
              <a:t>Learning Goals &amp; Consolidating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Breakout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K - 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46280" y="1947960"/>
            <a:ext cx="329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odds of hitting your target go up dramatically when you aim at it.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al Pan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4791240" y="685800"/>
            <a:ext cx="3751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3882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2136240" y="2209680"/>
            <a:ext cx="479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(Sections of inte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 &amp;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: Description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ing The Curriculu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8" name="Picture 1034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7712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ill Mining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479840" y="0"/>
            <a:ext cx="4587840" cy="662940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19076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rade groups, find curriculum connections to Grade 4 Proportional Reason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expectations on chart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tting The Targe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133440" cy="419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0" y="1295280"/>
            <a:ext cx="4343400" cy="433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8079120" y="23623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590920" y="54100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. 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tting The Targe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133440" cy="4191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rcRect l="0" t="10547" r="8775" b="0"/>
          <a:stretch/>
        </p:blipFill>
        <p:spPr>
          <a:xfrm>
            <a:off x="0" y="1066680"/>
            <a:ext cx="3962520" cy="38782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70" name="Text Box 7"/>
          <p:cNvSpPr/>
          <p:nvPr/>
        </p:nvSpPr>
        <p:spPr>
          <a:xfrm>
            <a:off x="8079120" y="1143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886200" y="10666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. 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8"/>
          <p:cNvGrpSpPr/>
          <p:nvPr/>
        </p:nvGrpSpPr>
        <p:grpSpPr>
          <a:xfrm>
            <a:off x="0" y="2057400"/>
            <a:ext cx="8001000" cy="3933360"/>
            <a:chOff x="0" y="2057400"/>
            <a:chExt cx="8001000" cy="3933360"/>
          </a:xfrm>
        </p:grpSpPr>
        <p:sp>
          <p:nvSpPr>
            <p:cNvPr id="73" name="TextBox 6"/>
            <p:cNvSpPr/>
            <p:nvPr/>
          </p:nvSpPr>
          <p:spPr>
            <a:xfrm>
              <a:off x="0" y="2057400"/>
              <a:ext cx="4495680" cy="39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entipede decides to give away his 100 shoes. He gives shoes to 5 spiders,  shoes to 2 worms,                 2 woodlice, 4 beetles, and 1 grasshopper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s the author’s math right? Did he give away 100 shoes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7"/>
            <p:cNvSpPr/>
            <p:nvPr/>
          </p:nvSpPr>
          <p:spPr>
            <a:xfrm>
              <a:off x="4952880" y="2819160"/>
              <a:ext cx="304812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ow many wings would there be on 26 butterflies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 revise your concept 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Journal Reflection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sider the role and/or importanc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Moment Feedbac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are some of its challenges and strength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is our content knowledge connected to our feed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6858000" y="152280"/>
            <a:ext cx="2057400" cy="1468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21:07:33Z</dcterms:created>
  <dc:creator>CSC</dc:creator>
  <dc:description/>
  <cp:keywords/>
  <dc:language>en-US</dc:language>
  <cp:lastModifiedBy>Kathy Kubota-Zarivnij</cp:lastModifiedBy>
  <dcterms:modified xsi:type="dcterms:W3CDTF">2011-08-17T21:32:36Z</dcterms:modified>
  <cp:revision>82</cp:revision>
  <dc:subject/>
  <dc:title>&lt;Title&gt;</dc:title>
</cp:coreProperties>
</file>